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5145088"/>
  <p:notesSz cx="10083800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0083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7"/>
          </p:nvPr>
        </p:nvSpPr>
        <p:spPr>
          <a:xfrm>
            <a:off x="571176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8"/>
          </p:nvPr>
        </p:nvSpPr>
        <p:spPr>
          <a:xfrm>
            <a:off x="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9"/>
          </p:nvPr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82DA-9A19-4A8A-92CE-05B5E32DECC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29A-9197-4CE2-8750-4B3AC070B6C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A3543-FA4B-4A56-A24F-6D18734E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E7356-1F85-4B6D-B179-ED4281E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EFC8D-D2AA-4D7C-8EFE-9FDD0DC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EF06A-4BC9-4AFB-93AA-AE01E7D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96917-F89E-4261-AFFD-C517E3E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39E54-09B5-4B1D-B74C-4A06384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C1602-CBBB-4FCD-BB9B-BBD6E7A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FD7C0-F2A3-4724-96A0-AF80A819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567D4-D4DC-401C-A59C-43F8A10D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5E7E2-9C8E-4C1F-95F8-7C9D1E94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2DD12-4D59-4E1D-967F-DFE65D1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1CE06-A9DE-40D4-8816-B1B486C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36178-5F8E-4109-A875-702D98DE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C8B28-29A4-43EC-88A9-FA9524CC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DD5B9-5361-4E8D-8652-146E7DE4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44832-4700-4DE0-88F3-D7D76E8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CAA8FA-025D-4A54-85CF-28289AB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8F877E-B19E-476B-9905-36E7406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7A7EA-FDFC-48EF-864D-CAE6D0ED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877132-CBB5-40F2-B639-9FEA2450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AB408-293D-41DC-816A-D2E274E1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CAEC4-CF24-4E6F-A385-6C8EC9B1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AEE40-2082-469C-836D-251729D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D057E-D23E-476D-993C-9BC45FA8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6B40-F1CA-485B-8703-25EA403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31C9-5141-47F1-A396-B00EA6D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42469-772E-4E8F-8E24-37D60BC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39819-5652-4555-A8A5-5BD4FD6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A5B61-C450-4341-AAAF-F3ECF9A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AECF-1006-49D5-9FC9-52177AE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FE8D2-3292-4AFD-8902-C5F2E3F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4E969-BED4-4697-9B53-A1926858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0D7F-E908-485F-9D98-5ED0459A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0CE99-8053-4011-8FCE-A3425130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5EFCC-EC09-41D1-8330-AD624D7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F9BBB-20AE-4757-83A4-CB8100AA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21C58-3CCB-4D68-B17C-C691FA0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D5960-17DC-490A-8ED7-BAE607A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D10E0-C247-4FE6-9B2C-FFFADD9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33831-4451-4DC9-94AC-476EE7D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34082-9D74-432A-96F6-5DDA96C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32908-225B-4A31-A836-D5D70EE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4B718-A50A-47F9-944B-5748F1E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03E97-DE9E-4BA5-BEE2-DB3650AA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D7681-D304-4747-B470-41EFCCF0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6E021-F9A6-4BCE-8707-E7CA9A9A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0E3C6-78A3-409F-BCF7-0ECB70E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10882-37E5-4969-966D-4233950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EB8B4-9B3B-4921-A4E1-4242E86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F3E4E-215A-43E4-AC74-3A7934A1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85C17-ACB2-44C0-A266-FC4D218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2A6CF-BA52-4DF0-A1CC-63AE1E4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00F88-4AB6-446C-B392-F617144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4E4E7-8DF6-40FE-AB43-39EDE5E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1C72A-E366-4A16-8650-F44AA2E0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32145-2884-491D-8F9E-7A95CA45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5E0FB-B7E2-4D1A-8669-D1F573BC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EB252-04AE-425D-9366-605BA4DC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B8C96-91BB-4ED5-9857-89A6F8B1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56E08-7C0D-49F1-9841-EE354B9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68B4B-6F73-4C89-A2B1-5596DAA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D36D7-FAEC-4439-A047-86E6C1EA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C0D94-429B-4EE7-A269-67E3635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751F7-E7EF-46D2-A1EA-E45B28C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0C8ED-7DFB-4C4F-9E33-7E9CBB3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D7D94-BCDB-48BC-888D-7AA91EB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91F2C-62D4-4B9B-B8FB-59FF919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17F97-F1C7-458B-B215-8DA1B9E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7A91E-1590-43E6-8944-172C91C7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68FBD-DB17-4823-A643-C63D285B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A4AE8-F603-48DE-82E5-00B0BC3C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FF042-722F-4352-B8ED-DDA8B553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90F8C-0435-4AE4-BCFF-6C68348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E5283-87BF-42CB-BAA7-894A1AD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37571-CB96-4F6C-BCA8-70009B3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22BB5-466C-4442-B2BA-6AAB8FA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D48D7-FA60-4603-B798-8E35B3C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DF452-7334-4CEE-B13E-E244B36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64807-228C-4AD5-AA91-20D59412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7C735-8A66-40EB-8E78-FE404342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4A167-CCB9-43FD-BEE3-2B89E61E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3BA63-3B4D-4D9A-B1DB-3EA726B5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E9B14-FD42-4F65-8D40-77E3F22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713B8-08FD-47B7-BEE0-51251BF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18203-B216-4296-9131-16BD3E65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C4326-C596-495C-A313-1C211B79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9A20E-F459-499A-BB86-A1E7688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F4638-B279-43D4-B575-9638389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7A02D-0BC4-4DD7-BFB1-82D8ABD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56E52-E0A9-4B57-A194-0EE28AB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EE31C-BE2F-4CD5-AFBD-564F181D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53A24-120C-492B-91CF-2E48E30E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D887A-75CA-4198-8B91-C8BEEF8D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63741-0E2E-4ACD-871C-E7AA2326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9D5270-9372-44C8-8E82-AAFF791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29D4C0-253B-414D-A4DE-246314B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3579-3DD3-45F3-9B4F-5B6915368B5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A5B-0BB4-413C-BA60-5FD91EC7FAE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1901-17BB-4D4C-A753-7BE046C3669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4F34-CCA1-4026-966E-7D14EE451FD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47C-BCAF-4680-9E6E-E80D6879479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DEBC-7A40-42E1-B958-3FD61E9D615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34A-94C6-4F60-9152-D094EECE53C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6F2-318C-49D4-882C-F8C5F5679D2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Информационная система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Электронное образование в 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79280" y="1347480"/>
            <a:ext cx="8964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тсутствие информации о статусе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в перечне ш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480960" y="914400"/>
            <a:ext cx="818352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96840" y="1662120"/>
            <a:ext cx="8951760" cy="181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 размещении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а официальных сайтах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иН Р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3.11.2012 №13723/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равил размещения в сети Интернет и обновления информации об ОУ, утвержденных постановлением Правительства РФ  от 18 апреля 2012 года №3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Информация об учред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ервый абзац на странице  О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именование или фамилия, имя, отчество учредителя образовательного учреждения, его место нахождения, график работы, справочный телефон, адрес сайта в сети интернет, адрес электронной поч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2. Подвершина вершины О школе (гимназии, лице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дире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рафик работы руководителя образовательного учреждения, справочный телефон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дения об уровне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валификации педагогических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Содержимое 10" descr="Анкета педагога.png"/>
          <p:cNvPicPr/>
          <p:nvPr/>
        </p:nvPicPr>
        <p:blipFill>
          <a:blip r:embed="rId1"/>
          <a:stretch/>
        </p:blipFill>
        <p:spPr>
          <a:xfrm>
            <a:off x="3780000" y="1635120"/>
            <a:ext cx="4559040" cy="8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Содержимое 9" descr="Анкета пед1.png"/>
          <p:cNvPicPr/>
          <p:nvPr/>
        </p:nvPicPr>
        <p:blipFill>
          <a:blip r:embed="rId2"/>
          <a:stretch/>
        </p:blipFill>
        <p:spPr>
          <a:xfrm>
            <a:off x="611280" y="1419120"/>
            <a:ext cx="289224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8" name="Рисунок 11" descr="Анкета пед2.png"/>
          <p:cNvPicPr/>
          <p:nvPr/>
        </p:nvPicPr>
        <p:blipFill>
          <a:blip r:embed="rId3"/>
          <a:stretch/>
        </p:blipFill>
        <p:spPr>
          <a:xfrm>
            <a:off x="5003640" y="2571840"/>
            <a:ext cx="302436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собый статус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МИС РТ-Низамиев Ильдар Мунавирович</dc:creator>
  <dc:description/>
  <dc:language>en-US</dc:language>
  <cp:lastModifiedBy>Тамара</cp:lastModifiedBy>
  <dcterms:modified xsi:type="dcterms:W3CDTF">2013-03-22T06:03:12Z</dcterms:modified>
  <cp:revision>630</cp:revision>
  <dc:subject/>
  <dc:title>Презентация PowerPoint</dc:title>
</cp:coreProperties>
</file>